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266-0572-4CE9-A481-944012D4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9E6-D911-49BB-8F79-BE611197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2B9-10E7-4331-9281-FEF8EF0C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AF1-6D03-487A-B547-C2DFE3A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48C-D589-463E-8418-39DE50A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FF0-69F6-479D-AC62-9EF78872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164-A495-4A2C-832B-4DDD8F0E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5B0-9D07-486C-B163-E3FBD3A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2F2-97BA-457F-AF58-DAC6B45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F80-0340-4893-AA2B-DCE3FFD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215-6FEF-4C0D-A25D-0F14C43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108-59E2-4BAD-9D6A-AA900BF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31CC-D723-44F4-AB17-99D93055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141720"/>
            <a:ext cx="2663640" cy="2520720"/>
            <a:chOff x="3203640" y="3141720"/>
            <a:chExt cx="2663640" cy="2520720"/>
          </a:xfrm>
        </p:grpSpPr>
        <p:sp>
          <p:nvSpPr>
            <p:cNvPr id="48" name=""/>
            <p:cNvSpPr/>
            <p:nvPr/>
          </p:nvSpPr>
          <p:spPr>
            <a:xfrm>
              <a:off x="3203640" y="3141720"/>
              <a:ext cx="2663640" cy="252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3790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509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509720"/>
              <a:ext cx="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06864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Speed  form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4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3933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Use the formula to work out simply distance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78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1916280"/>
            <a:ext cx="76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ar took 3 hours to complete a journey  24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89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91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94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96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4788000" y="530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5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106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1520" y="191628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train took 9 hours to complete a journey  of 117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117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119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122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1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124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57200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360" y="2708280"/>
            <a:ext cx="1801800" cy="1504800"/>
            <a:chOff x="2700360" y="2708280"/>
            <a:chExt cx="1801800" cy="1504800"/>
          </a:xfrm>
        </p:grpSpPr>
        <p:sp>
          <p:nvSpPr>
            <p:cNvPr id="134" name=""/>
            <p:cNvSpPr/>
            <p:nvPr/>
          </p:nvSpPr>
          <p:spPr>
            <a:xfrm>
              <a:off x="2700360" y="270828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1240" y="3780720"/>
              <a:ext cx="34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2920" y="3095640"/>
              <a:ext cx="4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2480" y="3780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8120" y="352476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7320" y="352476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1520" y="191628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train took 9 hours to complete a journey  of 1170 m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hat was the average speed of the 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51640" y="530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843280" y="4437000"/>
            <a:ext cx="1368360" cy="728280"/>
            <a:chOff x="2843280" y="4437000"/>
            <a:chExt cx="1368360" cy="728280"/>
          </a:xfrm>
        </p:grpSpPr>
        <p:sp>
          <p:nvSpPr>
            <p:cNvPr id="145" name=""/>
            <p:cNvSpPr/>
            <p:nvPr/>
          </p:nvSpPr>
          <p:spPr>
            <a:xfrm>
              <a:off x="284328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  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90920" y="4725720"/>
              <a:ext cx="577800" cy="439560"/>
              <a:chOff x="3490920" y="4725720"/>
              <a:chExt cx="577800" cy="439560"/>
            </a:xfrm>
          </p:grpSpPr>
          <p:sp>
            <p:nvSpPr>
              <p:cNvPr id="147" name=""/>
              <p:cNvSpPr/>
              <p:nvPr/>
            </p:nvSpPr>
            <p:spPr>
              <a:xfrm>
                <a:off x="356400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9092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716360" y="4437000"/>
            <a:ext cx="1368360" cy="728280"/>
            <a:chOff x="4716360" y="4437000"/>
            <a:chExt cx="1368360" cy="728280"/>
          </a:xfrm>
        </p:grpSpPr>
        <p:sp>
          <p:nvSpPr>
            <p:cNvPr id="150" name=""/>
            <p:cNvSpPr/>
            <p:nvPr/>
          </p:nvSpPr>
          <p:spPr>
            <a:xfrm>
              <a:off x="4716360" y="443700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  = 1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364000" y="4725720"/>
              <a:ext cx="577800" cy="439560"/>
              <a:chOff x="5364000" y="4725720"/>
              <a:chExt cx="577800" cy="439560"/>
            </a:xfrm>
          </p:grpSpPr>
          <p:sp>
            <p:nvSpPr>
              <p:cNvPr id="152" name=""/>
              <p:cNvSpPr/>
              <p:nvPr/>
            </p:nvSpPr>
            <p:spPr>
              <a:xfrm>
                <a:off x="5437080" y="479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64000" y="472572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572000" y="530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30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162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xx Exercise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9T21:15:20Z</dcterms:modified>
  <cp:revision>18</cp:revision>
  <dc:subject/>
  <dc:title>Slide 1</dc:title>
</cp:coreProperties>
</file>